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0E958-9A9F-4307-BDBE-A9588FCD17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9793F-49E2-4657-8253-D6CB859F3F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D8FB0-701B-4DD3-B3D1-CC9E01E243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F85E7-39F1-472B-9934-ED4DBC1925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7EA07-6DCE-46C9-8161-DC04F24FAF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5C025-22B8-475D-978C-FBEC75A2A6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C5579-5937-4D61-8C7F-55DDDEB2C7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B21FC-2557-4438-81E0-6B909B8E60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983B2-8FB4-4BEA-8C5F-FEBF478B8B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A1AE4-D97A-44A7-92DC-B26B90185F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A1E4D-CD59-4CE5-9616-930B4AB400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36164-04B5-484B-90F5-FDB8C7CA8C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9CF3B-0D50-49C9-8ABE-288240E4D2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C6E34-449C-4A98-815E-F40CECBFB6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1A76A-E59F-413A-98C1-5748857654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7E92C-D7D0-4D1F-8CAA-0A59EF57B6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B18A1-F143-4B8C-AD4B-15818A3985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89DED-FBEB-4864-B878-9F888E6B03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090B7-02CC-4FFF-8F4F-CB71338C0F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5C0B2-76B2-44CC-B208-8572B54D59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47303-2186-466D-9060-1ED9C5CFE5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34890-A8B5-4F76-9A5B-76DEE95626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CFF0C-D203-4FBD-804B-F715FDB98D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C46DC-A8F6-47A7-8CC4-46357C05A7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8811D-314B-44CC-A16F-AB5A57881E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C06C3-D5CC-4733-B58E-5084DE976B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A3DC1-F2C0-4E4C-B336-B8D9985174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7883D-C48E-4702-B76A-887DFEA60E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397FE-D4A6-4B16-AE99-229B2F89AF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B84C5-F29A-410F-9D7C-4714A29953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C913A-9168-4F96-A529-F1A19D0140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55A3E-9D70-4AA5-9F00-241DAEA043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: 09-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a 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rbitals overlap in a sideways fashion, the result is a 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nd.  Note that the two regions of overlap constitute a single 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53F19-54EA-4E52-BC9C-E31EC4A0CC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D2BE3-59C8-4A0D-BDC6-418A8F7BB7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EF457-8248-489D-9C87-6E09748C5D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C79DD-2E75-4DF6-840A-1F8632B16A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: 09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a 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nd in ethyle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hybridized 2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rbitals on each C atom overlap to form a 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nd.  The electron density in the 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nd is above and below the bond axis, whereas in th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nds, the electron density lies on the bond axis.  The two lobes constitute one 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40CC4-A914-4768-ABEF-D61D415FD4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796CA-0584-44EC-A17A-F79AACD1E7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AA776-BE3E-4DAF-B89B-A1E1321E66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EFDE4-4375-4B6E-A979-96F6F82C19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C0F9E-0136-4199-9183-D65E0914D1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81575-40DD-4C0C-B14D-243FA7D0F4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13D6B-BBFE-45A0-8C15-BBF90A6DCE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694D7-B5DF-4011-AFD8-3B519EA4CA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AEE9C-39EF-4262-85F6-D363FE0E94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9E086-E1DB-49F9-8C9D-875E984994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74F60-1B14-4DDD-9FA3-BA4BEAADA7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34F6B-BB84-4438-8079-D5221CD825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F9BFBD-F946-4348-A0A3-7283E99E06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6BC56-3785-4EB4-8972-5C25DBA007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: 09-29-01UNEx9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ple Exercise 9.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structures of 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92BFE-FAFA-496D-A5B1-2F42964055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: 09-30Ex9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in 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ized and delocalized 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nds in 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E44835-D1A9-47CD-BBFE-EA394CAC1F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: 09-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ocalized 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rbit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x 2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rbitals of benzene, shown in Figure 9.28(b), can be used to make C—C 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nds. (a, b)   Two equivalent ways to make localized 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nds.   These 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nds correspond to the two resonance structures for benzene. (c) A representation of the smearing out, or delocalization, of the three C—C 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nds among the six C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FC783-1315-46F0-A69A-7376670440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BA761-BEF6-41FB-8195-2FECECAD24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715A6-66A8-4C60-A927-C7D559CA35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79B41-EB4C-4FD8-893A-4392EA447A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676ED-7965-42B6-816B-B13F1F8458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DF7D7-4E1B-4097-B19A-00FCDAF5A6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04812-A4AA-4F32-B495-B3B0BF03B3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6AF09-3646-4D14-8393-C3EDD27BDC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19040" y="30492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AE3C0-056E-4449-AA19-E91DF5EE9F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0D1EA-EBBD-4689-B13F-7F10E23EF2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A51F6-F8A4-4043-AAD6-BA7DDA5366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32A3B-CF3D-4F00-AF65-F281BBD0D8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19040" y="30492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1DA55-4CB1-4A60-B65A-30E793D178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4CF1F-F6BF-4D7A-B615-C0C957FA2B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8F01D-824E-4BFE-A768-9206C26A48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A8CA0-204E-44F5-842F-1599902E2C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E4AC896B-BE59-43C7-BF72-8152FA1C6C10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F910D22D-7ECA-4BF1-BF05-C0199FA2FD01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27432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8.10 a &amp; b  The Structure of Lithium Fluo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29" descr="fig_08_10ab"/>
          <p:cNvPicPr/>
          <p:nvPr/>
        </p:nvPicPr>
        <p:blipFill>
          <a:blip r:embed="rId2"/>
          <a:stretch/>
        </p:blipFill>
        <p:spPr>
          <a:xfrm>
            <a:off x="4324320" y="376200"/>
            <a:ext cx="3559320" cy="5943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05577C50-B832-4CFC-9215-83D1FF4EE3EF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9040" y="441000"/>
            <a:ext cx="830592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.p. Diagram H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ill_08_04"/>
          <p:cNvPicPr/>
          <p:nvPr/>
        </p:nvPicPr>
        <p:blipFill>
          <a:blip r:embed="rId2"/>
          <a:stretch/>
        </p:blipFill>
        <p:spPr>
          <a:xfrm>
            <a:off x="1981080" y="1357200"/>
            <a:ext cx="5181840" cy="4921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4F2251AF-D6E2-4BDB-A22C-E069FD61F932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9040" y="40356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.p.Diagram 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ill_08_09"/>
          <p:cNvPicPr/>
          <p:nvPr/>
        </p:nvPicPr>
        <p:blipFill>
          <a:blip r:embed="rId2"/>
          <a:stretch/>
        </p:blipFill>
        <p:spPr>
          <a:xfrm>
            <a:off x="1981080" y="1328760"/>
            <a:ext cx="5181840" cy="4978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76124EEA-6033-4340-AA8E-576EBC77217E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19040" y="40356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.p. Diagram C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ill_08_10"/>
          <p:cNvPicPr/>
          <p:nvPr/>
        </p:nvPicPr>
        <p:blipFill>
          <a:blip r:embed="rId2"/>
          <a:stretch/>
        </p:blipFill>
        <p:spPr>
          <a:xfrm>
            <a:off x="2133720" y="1387440"/>
            <a:ext cx="4876560" cy="486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2368C3C7-364C-4CF9-8250-77ACF9044F52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9040" y="40356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.p. Diagram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ill_08_11"/>
          <p:cNvPicPr/>
          <p:nvPr/>
        </p:nvPicPr>
        <p:blipFill>
          <a:blip r:embed="rId2"/>
          <a:stretch/>
        </p:blipFill>
        <p:spPr>
          <a:xfrm>
            <a:off x="1905120" y="1219320"/>
            <a:ext cx="5333760" cy="5076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956EA91B-5873-43E9-A707-9169B584DF08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" descr="table_08_02"/>
          <p:cNvPicPr/>
          <p:nvPr/>
        </p:nvPicPr>
        <p:blipFill>
          <a:blip r:embed="rId2"/>
          <a:stretch/>
        </p:blipFill>
        <p:spPr>
          <a:xfrm>
            <a:off x="622440" y="1200240"/>
            <a:ext cx="806436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783DCD7C-F4AA-4D2C-AA1D-DAB97CE865CF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9040" y="164880"/>
            <a:ext cx="8305920" cy="17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8.9  The Energy Changes Involved in the Formation of Lithium Fluoride from Its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fig_08_09"/>
          <p:cNvPicPr/>
          <p:nvPr/>
        </p:nvPicPr>
        <p:blipFill>
          <a:blip r:embed="rId2"/>
          <a:stretch/>
        </p:blipFill>
        <p:spPr>
          <a:xfrm>
            <a:off x="2057400" y="1903320"/>
            <a:ext cx="5029200" cy="4378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FA7D8BA3-573A-4D6A-8F1E-B295A797821F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27432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8.10 a &amp; b  The Structure of Lithium Fluo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29" descr="fig_08_10ab"/>
          <p:cNvPicPr/>
          <p:nvPr/>
        </p:nvPicPr>
        <p:blipFill>
          <a:blip r:embed="rId2"/>
          <a:stretch/>
        </p:blipFill>
        <p:spPr>
          <a:xfrm>
            <a:off x="4324320" y="376200"/>
            <a:ext cx="3559320" cy="5943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F814E2B8-4B09-4E32-AAB9-DE5A05A5888A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8960" y="572400"/>
            <a:ext cx="2881440" cy="545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8.11  Comparison of the Energy Changes Involved in the Formation of Solid Sodium Fluoride and Solid Magnesium 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ch08_11"/>
          <p:cNvPicPr/>
          <p:nvPr/>
        </p:nvPicPr>
        <p:blipFill>
          <a:blip r:embed="rId2"/>
          <a:stretch/>
        </p:blipFill>
        <p:spPr>
          <a:xfrm>
            <a:off x="3378240" y="600120"/>
            <a:ext cx="5387760" cy="5486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0462765B-E593-462C-9366-70CBD9ED5CCD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3" descr="table_08_04"/>
          <p:cNvPicPr/>
          <p:nvPr/>
        </p:nvPicPr>
        <p:blipFill>
          <a:blip r:embed="rId2"/>
          <a:stretch/>
        </p:blipFill>
        <p:spPr>
          <a:xfrm>
            <a:off x="762120" y="279360"/>
            <a:ext cx="784836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0049D5D2-61E0-4E2C-B3BF-2DD2838FB2FE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3" descr="table_08_05"/>
          <p:cNvPicPr/>
          <p:nvPr/>
        </p:nvPicPr>
        <p:blipFill>
          <a:blip r:embed="rId2"/>
          <a:stretch/>
        </p:blipFill>
        <p:spPr>
          <a:xfrm>
            <a:off x="380880" y="685800"/>
            <a:ext cx="844560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20355C44-0D7B-41F3-BDF5-7F35E8E3FEB6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9040" y="176040"/>
            <a:ext cx="830592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gure 8.1 a &amp; b  (a) The Interaction of Two Hydrogen Atoms (b) Energy Profile as a Function of the Distance Between the Nuclei of the Hydrogen At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fig_08_01ab"/>
          <p:cNvPicPr/>
          <p:nvPr/>
        </p:nvPicPr>
        <p:blipFill>
          <a:blip r:embed="rId2"/>
          <a:stretch/>
        </p:blipFill>
        <p:spPr>
          <a:xfrm>
            <a:off x="380880" y="2178000"/>
            <a:ext cx="8382240" cy="4105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4"/>
          <p:cNvSpPr/>
          <p:nvPr/>
        </p:nvSpPr>
        <p:spPr>
          <a:xfrm>
            <a:off x="876240" y="68580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the table of Bond Energies to calculate the ΔH for the following rea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1379880" y="1905120"/>
            <a:ext cx="6384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+     2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+     2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C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+     2HF     +     2H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3695760" y="4724280"/>
            <a:ext cx="175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 = -1194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B531BCC7-8BA3-4F91-A8CF-4AEBA54608DF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09_06-02UNT02a"/>
          <p:cNvPicPr/>
          <p:nvPr/>
        </p:nvPicPr>
        <p:blipFill>
          <a:blip r:embed="rId2"/>
          <a:stretch/>
        </p:blipFill>
        <p:spPr>
          <a:xfrm>
            <a:off x="609480" y="685800"/>
            <a:ext cx="807732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77F57039-92E3-42BB-A80F-47019DC21D1B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" descr="09_06-02UNT02b"/>
          <p:cNvPicPr/>
          <p:nvPr/>
        </p:nvPicPr>
        <p:blipFill>
          <a:blip r:embed="rId2"/>
          <a:stretch/>
        </p:blipFill>
        <p:spPr>
          <a:xfrm>
            <a:off x="533520" y="457200"/>
            <a:ext cx="815328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79002639-9021-4848-A31E-FBC874B34E66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9040" y="249840"/>
            <a:ext cx="8305920" cy="12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8.18  The Bond Angles In the CH4, N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and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 Molec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fig_08_18"/>
          <p:cNvPicPr/>
          <p:nvPr/>
        </p:nvPicPr>
        <p:blipFill>
          <a:blip r:embed="rId2"/>
          <a:stretch/>
        </p:blipFill>
        <p:spPr>
          <a:xfrm>
            <a:off x="457200" y="2441520"/>
            <a:ext cx="8229600" cy="3025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B14294C0-7278-4AA3-BBDC-502400758528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5" descr="09_07-04UNT03a"/>
          <p:cNvPicPr/>
          <p:nvPr/>
        </p:nvPicPr>
        <p:blipFill>
          <a:blip r:embed="rId2"/>
          <a:stretch/>
        </p:blipFill>
        <p:spPr>
          <a:xfrm>
            <a:off x="1066680" y="228600"/>
            <a:ext cx="698688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80CFC9DC-FFAA-4168-9A8D-341E2BAC8D42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1027" descr="09_07-04UNT03b"/>
          <p:cNvPicPr/>
          <p:nvPr/>
        </p:nvPicPr>
        <p:blipFill>
          <a:blip r:embed="rId2"/>
          <a:stretch/>
        </p:blipFill>
        <p:spPr>
          <a:xfrm>
            <a:off x="914400" y="533520"/>
            <a:ext cx="746748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D1A7BD20-634F-4757-8F21-AECA5B55BFBC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9040" y="129240"/>
            <a:ext cx="8305920" cy="12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8.20 a &amp; b  Possible Electron Pair Arrangements for Xe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fig_08_20ab"/>
          <p:cNvPicPr/>
          <p:nvPr/>
        </p:nvPicPr>
        <p:blipFill>
          <a:blip r:embed="rId2"/>
          <a:stretch/>
        </p:blipFill>
        <p:spPr>
          <a:xfrm>
            <a:off x="380880" y="2798640"/>
            <a:ext cx="8382240" cy="2311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903F3E0E-254A-48AD-BAE1-8AF0F489C30A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9040" y="94680"/>
            <a:ext cx="8305920" cy="181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8.21 a-c  Three Possible Arrangements of the Electron Pairs in the I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fig_08_21ac"/>
          <p:cNvPicPr/>
          <p:nvPr/>
        </p:nvPicPr>
        <p:blipFill>
          <a:blip r:embed="rId2"/>
          <a:stretch/>
        </p:blipFill>
        <p:spPr>
          <a:xfrm>
            <a:off x="380880" y="2735280"/>
            <a:ext cx="8382240" cy="2714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8590645C-5CDF-453A-94AC-B5715EF6778E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29718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8.22 a-c  The Molecular Structure of Methan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fig_08_22ac"/>
          <p:cNvPicPr/>
          <p:nvPr/>
        </p:nvPicPr>
        <p:blipFill>
          <a:blip r:embed="rId2"/>
          <a:stretch/>
        </p:blipFill>
        <p:spPr>
          <a:xfrm>
            <a:off x="5343480" y="457200"/>
            <a:ext cx="2276640" cy="5791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FB37298E-4B97-4CED-A155-10107A4C3D51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9040" y="228240"/>
            <a:ext cx="8305920" cy="17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9.5  An Energy-Level Diagram Showing the Formation of Four s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rbi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3" descr="ch09_05"/>
          <p:cNvPicPr/>
          <p:nvPr/>
        </p:nvPicPr>
        <p:blipFill>
          <a:blip r:embed="rId2"/>
          <a:stretch/>
        </p:blipFill>
        <p:spPr>
          <a:xfrm>
            <a:off x="380880" y="2589120"/>
            <a:ext cx="8382240" cy="3006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DC8CAE58-D45B-4E68-BEDF-77BF41E8737C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9040" y="1663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8.2  The Effect of an Electric Field on Hydrogen Fluoride Molec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fig_08_02"/>
          <p:cNvPicPr/>
          <p:nvPr/>
        </p:nvPicPr>
        <p:blipFill>
          <a:blip r:embed="rId2"/>
          <a:stretch/>
        </p:blipFill>
        <p:spPr>
          <a:xfrm>
            <a:off x="762120" y="1600200"/>
            <a:ext cx="7619760" cy="4708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B85ADD5E-2162-49A7-B125-94AAA307234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19040" y="144000"/>
            <a:ext cx="8305920" cy="228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9.3  The Native 2s and Three 2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tomic Orbitals Characteristic of a Free Carbon Atom are Combined to Form a New Set of Four s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rbi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fig_09_03"/>
          <p:cNvPicPr/>
          <p:nvPr/>
        </p:nvPicPr>
        <p:blipFill>
          <a:blip r:embed="rId2"/>
          <a:stretch/>
        </p:blipFill>
        <p:spPr>
          <a:xfrm>
            <a:off x="457200" y="2798640"/>
            <a:ext cx="8229600" cy="286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0553EF5B-D300-4102-A6F0-CD79749CFF29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19040" y="441000"/>
            <a:ext cx="830592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9.4 Cross Section of s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rbi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fig_09_04"/>
          <p:cNvPicPr/>
          <p:nvPr/>
        </p:nvPicPr>
        <p:blipFill>
          <a:blip r:embed="rId2"/>
          <a:stretch/>
        </p:blipFill>
        <p:spPr>
          <a:xfrm>
            <a:off x="1984320" y="1143000"/>
            <a:ext cx="5176800" cy="5165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6977068C-3CD6-4001-AB8C-091239F6D477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9040" y="181080"/>
            <a:ext cx="830592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9.6  The Tetrahedral Set of Four s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bitals of the Carbon Atom are Used to Share Electron Pairs with the Four 1s Orbitals of the Hydrogen Atoms to Form the Four Equivalent C-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ch09_06"/>
          <p:cNvPicPr/>
          <p:nvPr/>
        </p:nvPicPr>
        <p:blipFill>
          <a:blip r:embed="rId2"/>
          <a:stretch/>
        </p:blipFill>
        <p:spPr>
          <a:xfrm>
            <a:off x="2286000" y="1938240"/>
            <a:ext cx="4572000" cy="4432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CC5394E6-E69C-40FC-BC4E-C477B2AC929A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9040" y="1663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9.7  The Nitrogen Atom in Ammonia is s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ybridiz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fig_09_07"/>
          <p:cNvPicPr/>
          <p:nvPr/>
        </p:nvPicPr>
        <p:blipFill>
          <a:blip r:embed="rId2"/>
          <a:stretch/>
        </p:blipFill>
        <p:spPr>
          <a:xfrm>
            <a:off x="1941480" y="1447920"/>
            <a:ext cx="5259600" cy="4890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EDD91191-3448-4313-A35F-5C7B5E97CD73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19040" y="1663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9.9  An Orbital Energy-Level Diagram for s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ybrid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ch09_09"/>
          <p:cNvPicPr/>
          <p:nvPr/>
        </p:nvPicPr>
        <p:blipFill>
          <a:blip r:embed="rId2"/>
          <a:stretch/>
        </p:blipFill>
        <p:spPr>
          <a:xfrm>
            <a:off x="457200" y="2436840"/>
            <a:ext cx="8229600" cy="303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CF87A968-B153-4B68-98CC-73FC2643FB0A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19040" y="149400"/>
            <a:ext cx="8305920" cy="22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9.8  The Hybridization of the s, px, and py Atomic Orbitals Results in the Formation of Three s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rbtitals Centered in the xy 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ch09_08"/>
          <p:cNvPicPr/>
          <p:nvPr/>
        </p:nvPicPr>
        <p:blipFill>
          <a:blip r:embed="rId2"/>
          <a:stretch/>
        </p:blipFill>
        <p:spPr>
          <a:xfrm>
            <a:off x="457200" y="2846520"/>
            <a:ext cx="8229600" cy="276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32DDE3AD-437B-4D89-94E8-FAFA8657B807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19040" y="181080"/>
            <a:ext cx="830592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9.10  When An s and Two p Orbitals Are Mixed to Form a Set of Three s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bitals, One p Orbital Remains Unchanged and is Perpendicular to the Plane of the Hybri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fig_09_10"/>
          <p:cNvPicPr/>
          <p:nvPr/>
        </p:nvPicPr>
        <p:blipFill>
          <a:blip r:embed="rId2"/>
          <a:stretch/>
        </p:blipFill>
        <p:spPr>
          <a:xfrm>
            <a:off x="1447920" y="2060640"/>
            <a:ext cx="6248160" cy="4241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42A09AE7-47FA-4F25-BDBE-30092E9AB261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19040" y="1663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9.11  The Sigma Bonds in Ethyl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fig_09_11"/>
          <p:cNvPicPr/>
          <p:nvPr/>
        </p:nvPicPr>
        <p:blipFill>
          <a:blip r:embed="rId2"/>
          <a:stretch/>
        </p:blipFill>
        <p:spPr>
          <a:xfrm>
            <a:off x="434880" y="1452600"/>
            <a:ext cx="8275680" cy="4890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09_22"/>
          <p:cNvPicPr/>
          <p:nvPr/>
        </p:nvPicPr>
        <p:blipFill>
          <a:blip r:embed="rId2"/>
          <a:stretch/>
        </p:blipFill>
        <p:spPr>
          <a:xfrm>
            <a:off x="1911240" y="1440"/>
            <a:ext cx="532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21C93B7A-A3DD-411B-BD7A-00411D0081D3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19040" y="1663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9.12  A Carbon-Carbon Double Bond Consists of a o and a pi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fig_09_12"/>
          <p:cNvPicPr/>
          <p:nvPr/>
        </p:nvPicPr>
        <p:blipFill>
          <a:blip r:embed="rId2"/>
          <a:stretch/>
        </p:blipFill>
        <p:spPr>
          <a:xfrm>
            <a:off x="1817640" y="1371600"/>
            <a:ext cx="5508720" cy="4890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91E9045D-C63B-4057-97BE-A9EF41B70559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9040" y="1663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8.3  The Pauling Electronegativity Va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ch08_03"/>
          <p:cNvPicPr/>
          <p:nvPr/>
        </p:nvPicPr>
        <p:blipFill>
          <a:blip r:embed="rId2"/>
          <a:stretch/>
        </p:blipFill>
        <p:spPr>
          <a:xfrm>
            <a:off x="380880" y="2246400"/>
            <a:ext cx="8382240" cy="3419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A498C0A3-5C7F-48E8-B6C8-92DC155FFAC3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19040" y="164880"/>
            <a:ext cx="8305920" cy="17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9.13  (a)The Orbitals Used to Form the Bonds in Ethylene (b) The Lewis Structure for Ethyl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" descr="fig_09_13"/>
          <p:cNvPicPr/>
          <p:nvPr/>
        </p:nvPicPr>
        <p:blipFill>
          <a:blip r:embed="rId2"/>
          <a:stretch/>
        </p:blipFill>
        <p:spPr>
          <a:xfrm>
            <a:off x="457200" y="2392200"/>
            <a:ext cx="8229600" cy="3400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09_25"/>
          <p:cNvPicPr/>
          <p:nvPr/>
        </p:nvPicPr>
        <p:blipFill>
          <a:blip r:embed="rId2"/>
          <a:stretch/>
        </p:blipFill>
        <p:spPr>
          <a:xfrm>
            <a:off x="1440" y="2252520"/>
            <a:ext cx="914256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92DE5216-7F92-4CF9-9670-B75EE44EBA40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19040" y="131400"/>
            <a:ext cx="8305920" cy="17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9.16  The Orbital Energy-Level Diagram for the Formation of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ybrid Orbitals on Carb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ch09_16"/>
          <p:cNvPicPr/>
          <p:nvPr/>
        </p:nvPicPr>
        <p:blipFill>
          <a:blip r:embed="rId2"/>
          <a:stretch/>
        </p:blipFill>
        <p:spPr>
          <a:xfrm>
            <a:off x="457200" y="2529000"/>
            <a:ext cx="8229600" cy="3127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B41B618A-67D0-4D11-B3E9-98331D99CB87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19040" y="228240"/>
            <a:ext cx="8305920" cy="228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9.14  When One s Orbital and One p Orbital are Hybridized, a Set of Two sp Orbitals Orientated at 180 Degrees Resul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ch09_14"/>
          <p:cNvPicPr/>
          <p:nvPr/>
        </p:nvPicPr>
        <p:blipFill>
          <a:blip r:embed="rId2"/>
          <a:stretch/>
        </p:blipFill>
        <p:spPr>
          <a:xfrm>
            <a:off x="380880" y="3408480"/>
            <a:ext cx="8382240" cy="1641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0AB892DA-2B22-4E5C-A492-3482659FF72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720" y="47520"/>
            <a:ext cx="8915400" cy="240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9.20 a-d  (a)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ybridized Nitrogen Atom (b) The o Bonds in the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lecule (c) The Two pi Bonds in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Formed When Electron Pairs Are Shared between two Sets of Paralle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bitals (d) The Total Bonding  Picture of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fig_09_20ad"/>
          <p:cNvPicPr/>
          <p:nvPr/>
        </p:nvPicPr>
        <p:blipFill>
          <a:blip r:embed="rId2"/>
          <a:stretch/>
        </p:blipFill>
        <p:spPr>
          <a:xfrm>
            <a:off x="1447920" y="2347920"/>
            <a:ext cx="6248160" cy="4029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6F78399E-2B3C-48B4-AC9E-72FE19E9D22C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19040" y="1663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9.17  The Orbitals of an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ybridized Carbo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3" descr="fig_09_17"/>
          <p:cNvPicPr/>
          <p:nvPr/>
        </p:nvPicPr>
        <p:blipFill>
          <a:blip r:embed="rId2"/>
          <a:stretch/>
        </p:blipFill>
        <p:spPr>
          <a:xfrm>
            <a:off x="1492200" y="1371600"/>
            <a:ext cx="6159600" cy="4890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8B457F3A-E17C-444E-A744-072608C3CB95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19040" y="129240"/>
            <a:ext cx="8305920" cy="12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9.15  The Hybrid Orbitals in the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olec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" descr="fig_09_15"/>
          <p:cNvPicPr/>
          <p:nvPr/>
        </p:nvPicPr>
        <p:blipFill>
          <a:blip r:embed="rId2"/>
          <a:stretch/>
        </p:blipFill>
        <p:spPr>
          <a:xfrm>
            <a:off x="515880" y="1371600"/>
            <a:ext cx="8110440" cy="4890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72B1DC11-31F8-467D-A7DD-3EBCC20E68DA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19040" y="1663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9.18  The Orbital Arrangement for an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ybridized Oxy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fig_09_18"/>
          <p:cNvPicPr/>
          <p:nvPr/>
        </p:nvPicPr>
        <p:blipFill>
          <a:blip r:embed="rId2"/>
          <a:stretch/>
        </p:blipFill>
        <p:spPr>
          <a:xfrm>
            <a:off x="1328760" y="1371600"/>
            <a:ext cx="6486480" cy="4890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525CA7B2-2F83-4CB6-B805-CE5BA1B19567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19040" y="167760"/>
            <a:ext cx="8305920" cy="20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9.19  (a) The Orbitals Used to form the Bonds in Carbon Dioxide; Note that the Carbon-Oxygen Double Bonds Each Consist of One o Bond and One pi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ch09_19"/>
          <p:cNvPicPr/>
          <p:nvPr/>
        </p:nvPicPr>
        <p:blipFill>
          <a:blip r:embed="rId2"/>
          <a:stretch/>
        </p:blipFill>
        <p:spPr>
          <a:xfrm>
            <a:off x="380880" y="2427120"/>
            <a:ext cx="8382240" cy="3880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02366959-68B7-4E6B-AAF4-B653115B0C95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19040" y="1663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9.21  A Set of ds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ybrid Orbitals on Phosphorus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3" descr="fig_09_21"/>
          <p:cNvPicPr/>
          <p:nvPr/>
        </p:nvPicPr>
        <p:blipFill>
          <a:blip r:embed="rId2"/>
          <a:stretch/>
        </p:blipFill>
        <p:spPr>
          <a:xfrm>
            <a:off x="1279440" y="1447920"/>
            <a:ext cx="6583320" cy="4890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0C968FC9-F408-4629-86C7-57A3C0777543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027" descr="table_08_01"/>
          <p:cNvPicPr/>
          <p:nvPr/>
        </p:nvPicPr>
        <p:blipFill>
          <a:blip r:embed="rId2"/>
          <a:stretch/>
        </p:blipFill>
        <p:spPr>
          <a:xfrm>
            <a:off x="774720" y="1039680"/>
            <a:ext cx="760716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5F3E7199-E6C7-49EA-959C-AA74F8DF4FE9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19040" y="129240"/>
            <a:ext cx="8305920" cy="12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9.22b  The Orbitals Used to Form the Bonds in P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ch09_22b"/>
          <p:cNvPicPr/>
          <p:nvPr/>
        </p:nvPicPr>
        <p:blipFill>
          <a:blip r:embed="rId2"/>
          <a:stretch/>
        </p:blipFill>
        <p:spPr>
          <a:xfrm>
            <a:off x="2208240" y="1447920"/>
            <a:ext cx="4728960" cy="4890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633B4F15-DDB2-4AA2-B124-E5F0A588C4C7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19040" y="1663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9.23  An Octahedral Set of d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rbitals on Sulfur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3" descr="fig_09_23"/>
          <p:cNvPicPr/>
          <p:nvPr/>
        </p:nvPicPr>
        <p:blipFill>
          <a:blip r:embed="rId2"/>
          <a:stretch/>
        </p:blipFill>
        <p:spPr>
          <a:xfrm>
            <a:off x="1600200" y="1622520"/>
            <a:ext cx="5943600" cy="4664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F159C9F8-607B-405A-BFD1-65FB7D619C97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19040" y="441000"/>
            <a:ext cx="830592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e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ill_09_01"/>
          <p:cNvPicPr/>
          <p:nvPr/>
        </p:nvPicPr>
        <p:blipFill>
          <a:blip r:embed="rId2"/>
          <a:stretch/>
        </p:blipFill>
        <p:spPr>
          <a:xfrm>
            <a:off x="457200" y="2316240"/>
            <a:ext cx="8229600" cy="3003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B279FAD4-FF65-4CBA-A09C-8904E396E10F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41200" y="-360"/>
            <a:ext cx="30355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9.24  Relationship of the Number of Effective Pairs, Their Spatial Arrangement, and the Hybrid Orbital Set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fig_09_24"/>
          <p:cNvPicPr/>
          <p:nvPr/>
        </p:nvPicPr>
        <p:blipFill>
          <a:blip r:embed="rId2"/>
          <a:stretch/>
        </p:blipFill>
        <p:spPr>
          <a:xfrm>
            <a:off x="4451400" y="380880"/>
            <a:ext cx="4083120" cy="5943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09_29-01UNEx9-7"/>
          <p:cNvPicPr/>
          <p:nvPr/>
        </p:nvPicPr>
        <p:blipFill>
          <a:blip r:embed="rId2"/>
          <a:stretch/>
        </p:blipFill>
        <p:spPr>
          <a:xfrm>
            <a:off x="1440" y="2346480"/>
            <a:ext cx="914256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09_30Ex9-7"/>
          <p:cNvPicPr/>
          <p:nvPr/>
        </p:nvPicPr>
        <p:blipFill>
          <a:blip r:embed="rId2"/>
          <a:stretch/>
        </p:blipFill>
        <p:spPr>
          <a:xfrm>
            <a:off x="2711520" y="1440"/>
            <a:ext cx="372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09_29"/>
          <p:cNvPicPr/>
          <p:nvPr/>
        </p:nvPicPr>
        <p:blipFill>
          <a:blip r:embed="rId2"/>
          <a:stretch/>
        </p:blipFill>
        <p:spPr>
          <a:xfrm>
            <a:off x="1440" y="1889280"/>
            <a:ext cx="9142560" cy="3081240"/>
          </a:xfrm>
          <a:prstGeom prst="rect">
            <a:avLst/>
          </a:prstGeom>
          <a:ln w="0">
            <a:noFill/>
          </a:ln>
        </p:spPr>
      </p:pic>
      <p:sp>
        <p:nvSpPr>
          <p:cNvPr id="285" name="TextBox 2"/>
          <p:cNvSpPr/>
          <p:nvPr/>
        </p:nvSpPr>
        <p:spPr>
          <a:xfrm>
            <a:off x="1403640" y="863640"/>
            <a:ext cx="43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Resonance in Benz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831EFFBF-0EE3-457E-B840-BF7B4B02E517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9040" y="1663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8.4  An Electrostatic Potential Map of H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fig_08_04"/>
          <p:cNvPicPr/>
          <p:nvPr/>
        </p:nvPicPr>
        <p:blipFill>
          <a:blip r:embed="rId2"/>
          <a:stretch/>
        </p:blipFill>
        <p:spPr>
          <a:xfrm>
            <a:off x="2057400" y="1596960"/>
            <a:ext cx="5029200" cy="471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B049F525-061D-4A00-910C-6914D6E660D5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9040" y="1663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8.5 a-c  The Charge Distribution in the Water Molec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fig_08_05ac"/>
          <p:cNvPicPr/>
          <p:nvPr/>
        </p:nvPicPr>
        <p:blipFill>
          <a:blip r:embed="rId2"/>
          <a:stretch/>
        </p:blipFill>
        <p:spPr>
          <a:xfrm>
            <a:off x="533520" y="2332080"/>
            <a:ext cx="8076960" cy="3247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0E6D9B24-9B52-41E6-A59E-D0DB6C33FE9A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19040" y="228240"/>
            <a:ext cx="8305920" cy="17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8.6 a-c  The Structure and Charge Distribution of the Ammonia Molecu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fig_08_06ac"/>
          <p:cNvPicPr/>
          <p:nvPr/>
        </p:nvPicPr>
        <p:blipFill>
          <a:blip r:embed="rId2"/>
          <a:stretch/>
        </p:blipFill>
        <p:spPr>
          <a:xfrm>
            <a:off x="457200" y="2570040"/>
            <a:ext cx="8229600" cy="3044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2"/>
          <p:cNvSpPr/>
          <p:nvPr/>
        </p:nvSpPr>
        <p:spPr>
          <a:xfrm>
            <a:off x="609480" y="64008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Houghton Mifflin Compan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248520" y="64008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fld id="{36BEAC1A-A5CD-4316-8D27-DD87B013A08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9040" y="1663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8.7 a-c  The Carbon Dioxide Molec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fig_08_07ac"/>
          <p:cNvPicPr/>
          <p:nvPr/>
        </p:nvPicPr>
        <p:blipFill>
          <a:blip r:embed="rId2"/>
          <a:stretch/>
        </p:blipFill>
        <p:spPr>
          <a:xfrm>
            <a:off x="533520" y="2647800"/>
            <a:ext cx="8076960" cy="2616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2:40:16Z</dcterms:created>
  <dc:creator>football</dc:creator>
  <dc:description/>
  <dc:language>en-US</dc:language>
  <cp:lastModifiedBy>Ed McTigue</cp:lastModifiedBy>
  <dcterms:modified xsi:type="dcterms:W3CDTF">2012-12-03T19:19:32Z</dcterms:modified>
  <cp:revision>19</cp:revision>
  <dc:subject/>
  <dc:title>PowerPoint Presentation</dc:title>
</cp:coreProperties>
</file>